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73E-A892-433F-96E9-9CDC331E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798-F4FE-47CC-9E81-CE20B316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5138-AE2E-4257-A415-10FD0EA1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870-389A-41BB-8E91-5B60720A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843-3510-40C4-B05B-77CEDE2C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5AA-A677-4A4B-AD3E-6C9EF7EF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B45-E3E2-422F-A5DC-4C888161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6100-D953-40EB-BFFE-97C11F87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702-9FC0-42B2-ABAF-805D9F8B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188-2064-49D3-9398-41218743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A4E-E694-4641-AC61-5DB808E9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B27-E915-4B36-A0F8-13E4A968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ECDF-C0DA-49A3-B33D-877668DC8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rocks.gg.utk.edu/Ge101/images/Sandstone.jpg&amp;imgrefurl=http://rocks.gg.utk.edu/Ge101/lecture_10.html&amp;h=412&amp;w=446&amp;prev=/images%3Fq%3Dsandstone%2Bsedimentary%2Brock%26start%3D20%26svnum%3D10%26hl%3Den%26lr%3D%26ie%3DUTF-8%26oe%3DUTF-8%26sa%3D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duceth.ch/stromboli/glossary/icons/pumice2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digistar.mb.ca/minsci/terms/Scoria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www.texasbeyondhistory.net/kids/images/obsidian-sm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vc403.bne025u.server-web.com/timerock/library/minerals/images/rhyolite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geology.csupomona.edu/alert/igneous/diorite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interactive2.usgs.gov/learningweb/images/topic_rocks_igneous.jpg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obertencyclopaedia.com/j/Granite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eology.neab.net/pictures/rock128s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-public.tu-bs.de:8080/~pbuch/4e/basalt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228600" y="609480"/>
            <a:ext cx="57913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ock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1433520"/>
            <a:ext cx="2743200" cy="2521080"/>
          </a:xfrm>
          <a:prstGeom prst="rect">
            <a:avLst/>
          </a:prstGeom>
          <a:ln w="0">
            <a:noFill/>
          </a:ln>
        </p:spPr>
      </p:pic>
      <p:pic>
        <p:nvPicPr>
          <p:cNvPr id="43" name="images" descr=""/>
          <p:cNvPicPr/>
          <p:nvPr/>
        </p:nvPicPr>
        <p:blipFill>
          <a:blip r:embed="rId4"/>
          <a:stretch/>
        </p:blipFill>
        <p:spPr>
          <a:xfrm>
            <a:off x="4419720" y="42670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gneiss" descr=""/>
          <p:cNvPicPr/>
          <p:nvPr/>
        </p:nvPicPr>
        <p:blipFill>
          <a:blip r:embed="rId5"/>
          <a:stretch/>
        </p:blipFill>
        <p:spPr>
          <a:xfrm>
            <a:off x="1143000" y="3657600"/>
            <a:ext cx="2332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ed7d7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6094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OOLING IS INSTANTANEOUS A GLASSY TEXTURE MAY FORM    (EX. OBSIDI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5812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GAS BUBBLES ARE TRAPPED AS THE LAVA RAPIDLY COOLS A VESICULAR TEXTURE MAY OCCUR (PUMICE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umice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4475160"/>
            <a:ext cx="3025800" cy="2224080"/>
          </a:xfrm>
          <a:prstGeom prst="rect">
            <a:avLst/>
          </a:prstGeom>
          <a:ln w="0">
            <a:noFill/>
          </a:ln>
        </p:spPr>
      </p:pic>
      <p:pic>
        <p:nvPicPr>
          <p:cNvPr id="83" name="Scoria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495680"/>
            <a:ext cx="3200400" cy="2210040"/>
          </a:xfrm>
          <a:prstGeom prst="rect">
            <a:avLst/>
          </a:prstGeom>
          <a:ln w="0">
            <a:noFill/>
          </a:ln>
        </p:spPr>
      </p:pic>
      <p:pic>
        <p:nvPicPr>
          <p:cNvPr id="84" name="obsidian-sm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3400" y="1676520"/>
            <a:ext cx="29718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3880" y="304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osterBodoni It BT"/>
                <a:ea typeface="Times New Roman"/>
              </a:rPr>
              <a:t>PORPHYRITIC RO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0666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NTAINS TWO STAGES OF COO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676520"/>
            <a:ext cx="7086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OLS FIRST AT GREAT DEPTH FORMING LARGE CRYSTALS STILL  SURROUNDED BY M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3048120"/>
            <a:ext cx="716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T IS THEN RUSHED TO THE SURFACE AND THE REMAINING LIQUID AROUND IT COOLS QUICKLY FORMING FINE-GRAINED CRYSTAL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images" descr=""/>
          <p:cNvPicPr/>
          <p:nvPr/>
        </p:nvPicPr>
        <p:blipFill>
          <a:blip r:embed="rId2"/>
          <a:stretch/>
        </p:blipFill>
        <p:spPr>
          <a:xfrm>
            <a:off x="5562720" y="4419720"/>
            <a:ext cx="23619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4479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QUARTZ, ORTHOCLASE FELDSPAR, AND AT LEAST ONE OTHER MINERAL; LIGHT-COLORED; COARSE-GRAINED; MAKES UP CONTINENTS; FELS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352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OL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INE-GRAINED GRANITE; FELS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038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I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OLCANIC GLASS; RAPID COOLING; PYROCLASTIC; FELS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1814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M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PONGE-LIKE BECAUSE OF ESCAPING AIR BUBBLES DURING COOLING; FELS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81080" y="380880"/>
            <a:ext cx="4600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mmon Igneous Rocks 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114300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A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INE-GRAINED; DARK-COLORED; MAKES UP THE OCEAN FLOOR; MA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286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B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ARSE-GRAINED BASALT; MAF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124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GRAIN SIZE INBETWEEN BASALT AND GABBRO; MA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2670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ALT G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AFIC OBSID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51814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AFIC PUM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4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C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GROUP OF MINERALS BOUND TOGETHER IN SOME WAY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5146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CKS ARE DIVIDED INTO THREE GROUPS BASED ON HOW THE ROCK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05320" y="5943600"/>
            <a:ext cx="4343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TAMORPHIC ROCK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4876920"/>
            <a:ext cx="457200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DIMENTARY ROCK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95680" y="3809880"/>
            <a:ext cx="34005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GNEOUS ROCK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6002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NEOUS ROCKS ARE FORMED BY THE COOLING AND HARDENING OF MOLTEN ROCK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3526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USIVE (PLUTONIC) - FORM BELOW THE EARTH’S SUR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47242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USIVE (VOLCANIC) – FORM ABOVE THE EARTH’S SUR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33720" y="304920"/>
            <a:ext cx="42670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gneous rocks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cfe"/>
            </a:gs>
            <a:gs pos="50000">
              <a:srgbClr val="ccccff"/>
            </a:gs>
            <a:gs pos="100000">
              <a:srgbClr val="ece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27672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XTU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S TO THE SIZE OF THE CRYSTALS IN AN IGNEOUS ROC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3880" y="228600"/>
            <a:ext cx="5257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HYSICAL PROPERTIE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4479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ARE TWO PHYSICAL PROPERTIES OF IGNEOUS ROCKS USED IN THE IDENTIFICATION OF THE ROCK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18148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THE LARGER THE CRYSTAL SIZE THE DEEPER WITHIN THE EARTH THE ROCK FORM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5238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L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FERS TO THE MINERAL COMPOSITION OF THE ROCK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895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5812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IDENTIFIED BY USING THE GENERAL SHADE OF THE R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533520"/>
            <a:ext cx="777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990720"/>
            <a:ext cx="4572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RE ARE MORE LIGHT MINERALS THAN IT IS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IF THERE ARE MORE DARK MINERALS THAN IT IS D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IF THERE IS THE SAME AMOUNT OF DARK MINERALS AS LIGHT THAN IT IS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rhyolite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533520"/>
            <a:ext cx="1274760" cy="1676160"/>
          </a:xfrm>
          <a:prstGeom prst="rect">
            <a:avLst/>
          </a:prstGeom>
          <a:ln w="0">
            <a:noFill/>
          </a:ln>
        </p:spPr>
      </p:pic>
      <p:pic>
        <p:nvPicPr>
          <p:cNvPr id="64" name="diorite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4419720"/>
            <a:ext cx="1828800" cy="1434960"/>
          </a:xfrm>
          <a:prstGeom prst="rect">
            <a:avLst/>
          </a:prstGeom>
          <a:ln w="0">
            <a:noFill/>
          </a:ln>
        </p:spPr>
      </p:pic>
      <p:pic>
        <p:nvPicPr>
          <p:cNvPr id="65" name="topic_rocks_igneou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2666880"/>
            <a:ext cx="20574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685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usive (plutonic) Igneous Ro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686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GM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OLTEN ROCK UNDERNEATH THE EARTH’S SURFAC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5268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USIVE IGNEOUS ROCKS COOL SLOWLY DEEP WITHIN THE EARTH AND PRODUCES LARGE CRYS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4724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db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68580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USIVE IGNEOUS ROCKS WILL RESULT IN A VERY COARSE (PEGMATITE) OR COARSE  (PHANERITIC) TEXTURE (EX. GRAN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Granit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895480"/>
            <a:ext cx="4343400" cy="2549520"/>
          </a:xfrm>
          <a:prstGeom prst="rect">
            <a:avLst/>
          </a:prstGeom>
          <a:ln w="0">
            <a:noFill/>
          </a:ln>
        </p:spPr>
      </p:pic>
      <p:pic>
        <p:nvPicPr>
          <p:cNvPr id="72" name="rock128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289548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6668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MA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95280" y="3049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usive (volcanic) igneous rock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143000"/>
            <a:ext cx="81536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V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OLTEN ROCK THAT POURS OUT ONTO THE EARTH’S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28600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USIVE ROCKS LACK DISTINCT MINERAL GRAINS DUE TO RAPID COOLING OF LAVA AT OR NEAR THE EARTH’S SURFA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49568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USIVE IGNEOUS ROCKS WILL RESULT IN FINE (APHANITIC) TEXTURE (EX. BASAL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asal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97360" y="3809880"/>
            <a:ext cx="25146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3:25:03Z</dcterms:created>
  <dc:creator>Joseph Felipe</dc:creator>
  <dc:description/>
  <dc:language>en-US</dc:language>
  <cp:lastModifiedBy>Lakeland School District</cp:lastModifiedBy>
  <dcterms:modified xsi:type="dcterms:W3CDTF">2003-12-02T19:02:23Z</dcterms:modified>
  <cp:revision>10</cp:revision>
  <dc:subject/>
  <dc:title>PowerPoint Presentation</dc:title>
</cp:coreProperties>
</file>